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86FFD-0F0E-4A0B-9A6C-C72EDF3C9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0D16D-84C6-4418-81DE-31095F676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F13430-7662-4E93-848D-21D658563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37276-63D2-48AE-B663-E2A9763F9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BA16FE-57E3-4A14-B56B-2694D27968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F6283-4609-4B48-AFFB-F121537A1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34022-9EB5-4ED8-9FF3-4F2265E58A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7B413-922C-4B22-BB4A-0358286475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93B80-D027-41A2-8AB9-ABE7D7FD0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0869C-FEAC-432B-8677-AB946BC4F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95206-4484-4145-ADF0-0D2B3C74C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8C5DC-8C72-460D-9E4E-CFA293468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9EA2A-2F75-4CBE-8F73-37D5D199A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F3767-09DC-4644-A42C-089064F8D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4E8DD-9218-4B7C-88CD-3BF1D7AF3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6D1732-5D49-4AB5-B145-54D2F07249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2C4253-6EE5-4221-9FE6-98796F576B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13CFB-BDA1-4176-AFCA-ADC587A35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A3429-300D-4689-BB73-DC603671A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CB2CD-E43E-45BD-A185-6BBE584E1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0B5E9-E5B2-4537-BDA8-6CA95FC0A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17CAB-1A56-4C9E-8014-9A1CE7169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70593-CA0E-4F3F-A60C-0DE5789B1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1DBED-6693-477A-A347-DD0C75721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946E0-1614-4F7C-BC8F-EA8ABD2AE38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7DA38-25FB-46F4-91B5-0660BD34655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7/7c/Tzitsernakapert.jpg" TargetMode="External"/><Relationship Id="rId3" Type="http://schemas.openxmlformats.org/officeDocument/2006/relationships/image" Target="../media/image2.jpeg"/><Relationship Id="rId4" Type="http://schemas.openxmlformats.org/officeDocument/2006/relationships/hyperlink" Target="http://en.wikipedia.org/wiki/Ottoman_Empire"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rmeniapedia.org/index.php?title=Image:Garni_temple-dcp1758.jpg"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rmeniapedia.org/index.php?title=Image:Sasuntsi_tavit-alexouns.jpg"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hris Garland</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Mike Miller</a:t>
            </a:r>
            <a:endParaRPr b="0" lang="en-US" sz="3200" spc="-1" strike="noStrike">
              <a:solidFill>
                <a:srgbClr val="ffffff"/>
              </a:solidFill>
              <a:latin typeface="Tahoma"/>
            </a:endParaRPr>
          </a:p>
        </p:txBody>
      </p:sp>
      <p:sp>
        <p:nvSpPr>
          <p:cNvPr id="83" name=""/>
          <p:cNvSpPr txBox="1"/>
          <p:nvPr/>
        </p:nvSpPr>
        <p:spPr>
          <a:xfrm>
            <a:off x="1752480" y="762120"/>
            <a:ext cx="5562720" cy="25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Armenia</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History</a:t>
            </a: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ost Major event in Armenia is the Armenian Genocide which was when Turks came into Armenia and massacred the Armenians. 650,000 to 1.5 million were killed.</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other is there history with the Soviet Union. They had controvesy with them for many years over land, cities, money, and natural resources.</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current event in Armenia is the Yerevan election that is set for May 21</a:t>
            </a:r>
            <a:r>
              <a:rPr b="0" lang="en-US" sz="2800" spc="-1" strike="noStrike" baseline="30000">
                <a:solidFill>
                  <a:srgbClr val="ffffff"/>
                </a:solidFill>
                <a:latin typeface="Tahoma"/>
              </a:rPr>
              <a:t>st.</a:t>
            </a:r>
            <a:r>
              <a:rPr b="0" lang="en-US" sz="2800" spc="-1" strike="noStrike">
                <a:solidFill>
                  <a:srgbClr val="ffffff"/>
                </a:solidFill>
                <a:latin typeface="Tahoma"/>
              </a:rPr>
              <a:t> This is were they elect municipal assembl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conomy</a:t>
            </a:r>
            <a:endParaRPr b="0" lang="en-US" sz="4400" spc="-1" strike="noStrike">
              <a:solidFill>
                <a:srgbClr val="e5ffff"/>
              </a:solidFill>
              <a:latin typeface="Tahoma"/>
            </a:endParaRPr>
          </a:p>
        </p:txBody>
      </p:sp>
      <p:sp>
        <p:nvSpPr>
          <p:cNvPr id="1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have Big industries that require many laborers and equipment. They are a huge manufacturing country.</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ir major exports are $218 million dollars worth of diamonds, scrap metal, machinery and equipment.</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ir literacy rate is 99.4%. </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ir Currency is the Dram. Similar to the dolla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ulture</a:t>
            </a: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have little traditions in clothes but in foods they eat food spiced with many herbs and spice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ir Specialties include khortik, Salads with lolik, and other dishes that include zeitun.</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speak Armenian in Armenia.</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are mostly christia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laces to Visit</a:t>
            </a:r>
            <a:endParaRPr b="0" lang="en-US" sz="4400" spc="-1" strike="noStrike">
              <a:solidFill>
                <a:srgbClr val="e5ffff"/>
              </a:solidFill>
              <a:latin typeface="Tahoma"/>
            </a:endParaRPr>
          </a:p>
        </p:txBody>
      </p:sp>
      <p:sp>
        <p:nvSpPr>
          <p:cNvPr id="1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 the memorials and statues and temples listed earlier.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ir wildlife zoos and museum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ir most historical site is Yerevan, their capita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tacentral.com/dining.asp</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en.wikipedia.org/wiki/Armeni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armstat.am/en/?nid=81&amp;id=766</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en.wikipedia.org/wiki/Armenian_Soviet_Encyclopedi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Geography of Armenia</a:t>
            </a:r>
            <a:br>
              <a:rPr sz="4000"/>
            </a:br>
            <a:endParaRPr b="0" lang="en-US" sz="40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cation: Armenia is found in the continent of Asi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in the region of the middle eas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landmarks are Tsitsernakaberd : Armenian Genocide Memorial, Garni Temple, and Sasuntsi Davi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File:Tzitsernakapert.jpg">
            <a:hlinkClick r:id="rId2"/>
          </p:cNvPr>
          <p:cNvPicPr/>
          <p:nvPr/>
        </p:nvPicPr>
        <p:blipFill>
          <a:blip r:embed="rId3"/>
          <a:stretch/>
        </p:blipFill>
        <p:spPr>
          <a:xfrm>
            <a:off x="0" y="0"/>
            <a:ext cx="9296280" cy="6937200"/>
          </a:xfrm>
          <a:prstGeom prst="rect">
            <a:avLst/>
          </a:prstGeom>
          <a:ln w="0">
            <a:noFill/>
          </a:ln>
        </p:spPr>
      </p:pic>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sitsernakaberd : Armenian Genocide Memorial</a:t>
            </a:r>
            <a:endParaRPr b="0" lang="en-US" sz="4000" spc="-1" strike="noStrike">
              <a:solidFill>
                <a:srgbClr val="e5ffff"/>
              </a:solidFill>
              <a:latin typeface="Tahoma"/>
            </a:endParaRPr>
          </a:p>
        </p:txBody>
      </p:sp>
      <p:sp>
        <p:nvSpPr>
          <p:cNvPr id="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a memorial dedicated to the victims of the Armenian Genocide; it is located on a hill overlooking Yerevan, Armenia. Every year on April 24th, hundreds of thousands of Armenians gather here to remember the victims of the 1915 Armenian Genocide that took place in the Ottoman</a:t>
            </a:r>
            <a:r>
              <a:rPr b="0" lang="en-US" sz="3200" spc="-1" strike="noStrike" u="sng">
                <a:solidFill>
                  <a:srgbClr val="00ccff"/>
                </a:solidFill>
                <a:uFillTx/>
                <a:latin typeface="Tahoma"/>
                <a:hlinkClick r:id="rId4"/>
              </a:rPr>
              <a:t> Empire</a:t>
            </a:r>
            <a:r>
              <a:rPr b="0" lang="en-US" sz="3200" spc="-1" strike="noStrike" u="sng">
                <a:solidFill>
                  <a:srgbClr val="ffffff"/>
                </a:solidFill>
                <a:uFillTx/>
                <a:latin typeface="Tahoma"/>
              </a:rPr>
              <a:t> carried out by the Turkish governmen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Garni Temple">
            <a:hlinkClick r:id="rId2"/>
          </p:cNvPr>
          <p:cNvPicPr/>
          <p:nvPr/>
        </p:nvPicPr>
        <p:blipFill>
          <a:blip r:embed="rId3"/>
          <a:stretch/>
        </p:blipFill>
        <p:spPr>
          <a:xfrm>
            <a:off x="0" y="0"/>
            <a:ext cx="9144000" cy="6858000"/>
          </a:xfrm>
          <a:prstGeom prst="rect">
            <a:avLst/>
          </a:prstGeom>
          <a:ln w="0">
            <a:noFill/>
          </a:ln>
        </p:spPr>
      </p:pic>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arni Temple</a:t>
            </a:r>
            <a:endParaRPr b="0" lang="en-US" sz="4400" spc="-1" strike="noStrike">
              <a:solidFill>
                <a:srgbClr val="e5ffff"/>
              </a:solidFill>
              <a:latin typeface="Tahoma"/>
            </a:endParaRPr>
          </a:p>
        </p:txBody>
      </p:sp>
      <p:sp>
        <p:nvSpPr>
          <p:cNvPr id="9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temple was built in the 1</a:t>
            </a:r>
            <a:r>
              <a:rPr b="0" lang="en-US" sz="3200" spc="-1" strike="noStrike" baseline="30000">
                <a:solidFill>
                  <a:srgbClr val="ffffff"/>
                </a:solidFill>
                <a:latin typeface="Tahoma"/>
              </a:rPr>
              <a:t>st</a:t>
            </a:r>
            <a:r>
              <a:rPr b="0" lang="en-US" sz="3200" spc="-1" strike="noStrike">
                <a:solidFill>
                  <a:srgbClr val="ffffff"/>
                </a:solidFill>
                <a:latin typeface="Tahoma"/>
              </a:rPr>
              <a:t> century A.D. by the Armenian King Tiridates with the money he got after meeting Emperor Nero in Rome.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679 an earthquake destroyed the temple, and was reconstructed in Soviet tim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Sasuntsi Davit statue in Yerevan by Alex Ounanians © All rights reserved. .">
            <a:hlinkClick r:id="rId2"/>
          </p:cNvPr>
          <p:cNvPicPr/>
          <p:nvPr/>
        </p:nvPicPr>
        <p:blipFill>
          <a:blip r:embed="rId3"/>
          <a:stretch/>
        </p:blipFill>
        <p:spPr>
          <a:xfrm>
            <a:off x="0" y="0"/>
            <a:ext cx="9144000" cy="6870600"/>
          </a:xfrm>
          <a:prstGeom prst="rect">
            <a:avLst/>
          </a:prstGeom>
          <a:ln w="0">
            <a:noFill/>
          </a:ln>
        </p:spPr>
      </p:pic>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asuntsi Davit</a:t>
            </a:r>
            <a:endParaRPr b="0" lang="en-US" sz="44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tatue of Sasuntsi Davit on horseback is located at the Sasuntsi Davit Metro station on Tigran Mets Street in Yerevan.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vid of Sasun was an epic Armenian folk hero.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6172200" y="76320"/>
            <a:ext cx="2857680" cy="2857320"/>
          </a:xfrm>
          <a:prstGeom prst="rect">
            <a:avLst/>
          </a:prstGeom>
          <a:ln w="0">
            <a:noFill/>
          </a:ln>
        </p:spPr>
      </p:pic>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ild life</a:t>
            </a: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lants found in Armenia have very many varieties such as their fruits and vegetables.</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fruits of Armenia are wild cherries, pomegranates, apricots, and European pears.  </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of their trees include White and Black Poplar trees, and the Norway Maple.</a:t>
            </a: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8" name="" descr=""/>
          <p:cNvPicPr/>
          <p:nvPr/>
        </p:nvPicPr>
        <p:blipFill>
          <a:blip r:embed="rId3"/>
          <a:stretch/>
        </p:blipFill>
        <p:spPr>
          <a:xfrm>
            <a:off x="762120" y="152280"/>
            <a:ext cx="163656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228600" y="2057400"/>
            <a:ext cx="3952800" cy="4486320"/>
          </a:xfrm>
          <a:prstGeom prst="rect">
            <a:avLst/>
          </a:prstGeom>
          <a:ln w="0">
            <a:noFill/>
          </a:ln>
        </p:spPr>
      </p:pic>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ild Life</a:t>
            </a: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imal life in Armenia includes Wild Boar, Porcupines , and various species of lizards, Snakes and numerous species of birds.</a:t>
            </a:r>
            <a:endParaRPr b="0" lang="en-US" sz="3200" spc="-1" strike="noStrike">
              <a:solidFill>
                <a:srgbClr val="ffffff"/>
              </a:solidFill>
              <a:latin typeface="Tahoma"/>
            </a:endParaRPr>
          </a:p>
        </p:txBody>
      </p:sp>
      <p:pic>
        <p:nvPicPr>
          <p:cNvPr id="102" name="" descr=""/>
          <p:cNvPicPr/>
          <p:nvPr/>
        </p:nvPicPr>
        <p:blipFill>
          <a:blip r:embed="rId3"/>
          <a:stretch/>
        </p:blipFill>
        <p:spPr>
          <a:xfrm>
            <a:off x="5029200" y="3733920"/>
            <a:ext cx="3805200" cy="297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ater and Natural Resources</a:t>
            </a: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menia has many lakes and riv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menia has many massive earthquakes and droughts year round, these are some risks of living her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tural resources include small deposittis of gold, copper, molybdenum, zinc, alumi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overment</a:t>
            </a:r>
            <a:endParaRPr b="0" lang="en-US" sz="4400" spc="-1" strike="noStrike">
              <a:solidFill>
                <a:srgbClr val="e5ffff"/>
              </a:solidFill>
              <a:latin typeface="Tahoma"/>
            </a:endParaRPr>
          </a:p>
        </p:txBody>
      </p:sp>
      <p:sp>
        <p:nvSpPr>
          <p:cNvPr id="1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menia is democratic republic nation, uk</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sident of the republic is Serzh Sargsya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ime minister is Tigran Sargsya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verage life expectancy is 60-75</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pulation is 3,231,90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16:10:34Z</dcterms:created>
  <dc:creator>michaeltmiller</dc:creator>
  <dc:description/>
  <dc:language>en-US</dc:language>
  <cp:lastModifiedBy>michaeltmiller</cp:lastModifiedBy>
  <dcterms:modified xsi:type="dcterms:W3CDTF">2009-02-24T19:16:18Z</dcterms:modified>
  <cp:revision>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